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60000" y="717480"/>
            <a:ext cx="6281640" cy="471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for Windows T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2293920" y="8957880"/>
            <a:ext cx="2338560" cy="338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05 LEN 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SUL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4780080" y="8986680"/>
            <a:ext cx="915840" cy="309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68CCB-18FC-4FF3-96EF-3E71FCDC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8696160"/>
            <a:ext cx="669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6280" y="8807400"/>
            <a:ext cx="1217880" cy="36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1360" y="5581800"/>
            <a:ext cx="66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84920" y="8788320"/>
            <a:ext cx="80964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Tabb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indent changes to multiple lines of source in the program editor at o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mode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atural is started with profile parameter BATCH set, error messages are not displayed, but written to a log file. The log file is named "natbatch.log" and is located in the Natural binary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Batch m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nd output channels to be defin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YNI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s, CMOBJI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, CMPRIN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PRTn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int spool nn, CMWRKn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k file nn  (if requi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LOG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 and amount of information to be logged (optional, def=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86920" y="5756400"/>
            <a:ext cx="63500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scription of DOS state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echo on/of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OS commands for showing 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t/end loc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OS commands to use env. vars. for this DOS session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[varname]={value}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ssign value to environment var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EXT &gt;filename.ext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rites TEXT to filename.ext over-writing if it ex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EXT &gt;&gt;filename.ext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ppend to existing fil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lename.ext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Deletes th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u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Wait for the “any” key to be presse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ds the DOS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scription of Natural command op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CHMO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on-interactive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[parm file name]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Parameter file name from configuration utility to be used if not to use default NATPARM pro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LO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hich errors to write in logfile located in Natural TMP dir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MSI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imilar batchmode output (MF, VM, 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Any scripting language can be used as long as it can start an execut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to watch the number of “shares” with either case, W2K Pro only allows 1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aring Source On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ws single set of FUSR source, but everything else is on a per-machine ba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s for individual parameter setup (good or bad?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s &amp; patches need full install on each individual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ws for different machines to have different patch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etwork Server Installation Op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full install onto the “serve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client (developer machine) only requires a small install &amp; setup ste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al: Initial bufferpool service installation is manual – not sure why?!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install of patch levels on server only, clients are prompted to re-run small install next time Studio is started ag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ce there is a single set of parameter files changes will affect everyone using that parameter 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v6.2 documentation for using the FDDM option has been updated and seems to describe the proces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Tv6.1 the conversion is documented, but there are a couple of details mis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p 1 und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to activate the FDDM mo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indicates to “Create an appropriate directory to store the DDMs” but never describes what that i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nsistancy create a folder called FDDM in the same location as your FUSER folder (i.e. C:\Program Files\Software AG\Natural\NATAPPS).  In the new FDDM folder create a folder named SYSTEM, then in SYSTEM create folders named GP and SRC (to store objects and source, res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hen Studio is started there should be an inactive environment where the existing DDMs can be moved to (drag’n’drop).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this BEFORE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parameter file referred to in step 3 would normally be the default one used (NATPARM), unless another is specified as a startup p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60360" y="717480"/>
            <a:ext cx="6281640" cy="4711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5756400"/>
            <a:ext cx="5610240" cy="2862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remote FSEC is to be used I.E. from a mainframe or U*nix enviro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ranslation settings in Net-Work for som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362240" y="190080"/>
            <a:ext cx="187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2000" y="42876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9360" y="42876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36720" y="42876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4480" y="630396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202280" y="6499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A88-E47C-4714-9420-D5AD4BF1FE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14440" y="6496200"/>
            <a:ext cx="172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Conference 2005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257800" y="6486480"/>
            <a:ext cx="1438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6 Tn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893000" y="6113520"/>
            <a:ext cx="110340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6486480"/>
            <a:ext cx="1438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6 Tn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480" y="630396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02280" y="6499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2BA1-DDE3-473C-9D61-4051111BA1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893000" y="6113520"/>
            <a:ext cx="1103400" cy="59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14440" y="6496200"/>
            <a:ext cx="172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ural Conference 2005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Ta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581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multiple lines to change tabb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use text selection, no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N/A to NATv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 to increase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-tab to decrease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tch mode sim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ets *DEVICE to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s error msgs to log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Batch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EVICE to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channel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the same as J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181160"/>
            <a:ext cx="701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ource for a .bat or .cmd file to invoke Natural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57320" y="1757520"/>
            <a:ext cx="7153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rst create the input for the Natural session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@echo of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loc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NATFILE=In-Out-Fil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 LOGON TESTLIB &gt;%NATFILE%.in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 BATCHTST &gt;&gt;%NATFILE%.in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 INPARM1=SomeData</a:t>
            </a: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&gt;%NATFILE%.in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te: Both commands and data can be in the same fil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n invoke the Natural session using required I/O channel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@echo on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URAL BATCHMODE PARM=TESTBPSF CMSYNIN=%NATFILE%.in CMOBJIN=%NATFILE%.in CMPRINT=%NATFILE%.out NATLOG=ALL BMSIM=M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o Error Level from Natural: %ERRORLEVEL%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%NATFILE%.ni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loc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FUSER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181160"/>
            <a:ext cx="70106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ing Source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SR folder on an share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g each parm file for shared F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rver Insta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install, both server and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“once” to distribut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step to provide BP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m changes affect every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FDDM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single repository for DD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MF with DDMs in F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consistent file l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NSC all libraries have access to all DD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FUSER it can b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Natur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concept as MF N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PC Adabas or Entire Net-Work for access to a FSEC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existing remote FSEC for consistency &amp; single administrative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180800"/>
            <a:ext cx="701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/ Additional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atural 6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ps ‘n’ Techniq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00560" y="5457960"/>
            <a:ext cx="3695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Conference 200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4384800"/>
            <a:ext cx="4248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lph Zbro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Zbrog@ZZUtils.co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 Scot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cott@FCL.c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4:59:58Z</dcterms:created>
  <dc:creator>Ralph Zbrog &amp; Chad Scott</dc:creator>
  <dc:description/>
  <dc:language>en-US</dc:language>
  <cp:lastModifiedBy>Laptop</cp:lastModifiedBy>
  <dcterms:modified xsi:type="dcterms:W3CDTF">2006-10-09T19:37:02Z</dcterms:modified>
  <cp:revision>694</cp:revision>
  <dc:subject>Natural 6 TnT</dc:subject>
  <dc:title>Natural Conference 2006</dc:title>
</cp:coreProperties>
</file>